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327-CB15-4ADE-84B2-9DE22818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071-6F72-4C13-942C-09B45981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B0533-6DA3-4FE4-A9EB-565563DC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AC83B-F58F-4CE8-B0C7-10753E2B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81428-637B-4BE4-BBAD-92A72A4A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D2FA1-1181-40E7-B1E8-7894078B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B3D96-8557-475D-9A6F-60D67019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4B525-F7E0-4D68-A668-D15CFA93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A065B-CC26-41B0-9FA5-415A7A02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75F98-B105-4AF0-BCFD-A942AF89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1A224-FB6D-499D-948C-E5B4B0A2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C5422-C836-47DA-8805-567EB7BE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2DF-A5B2-4B5D-88DD-9D8C6C07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84DD8-19B6-4C28-BDA4-1379C58B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C1CD6-2082-4304-B247-772D4F0D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87EF7-E170-41E2-96A8-53D62522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2B474-EA02-4294-8506-10A92A7B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A9E00-F619-4554-9916-BFC0BDC3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9DB81-6974-4F7D-9361-BDA42A5B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6A0D9-07B6-4794-8C47-884A4FEB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4C363-4446-47C9-9E96-F5812233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09AD0-675B-4FC5-95A7-421CFC1F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4A86A-EFE3-4BC6-8106-5CC9761E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63C-1F5E-42CE-BC91-5B9884F8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856F7-5C2B-423E-92C8-8747E862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10828-6C59-4048-8A5B-100B71F4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59C35-FA60-41D8-AF8D-87F9AFB4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906C8-BF90-4D76-9454-06F03F48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FFB06-7085-4220-8168-AB71C703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0BCAF-F0BF-46C0-A774-978F722B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5C29D-A766-4819-9272-D03BE379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95A17-9D06-4517-8C8D-D2851E8C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0B6F1-BB48-4A84-B835-2AC3866F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BA7E6-70CE-46EE-A6AF-62582D6E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39D3-3FC4-4EC1-92DE-BD447465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4CF2D-E42A-4868-ACB9-58521F1A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77844-BF88-440B-BA40-DD08286E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66BA2-2990-4696-8346-7FBD5014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A1D3F-CEE8-4CC0-8B2D-4AF9D6D7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C7075-AEED-48B9-B75F-76F7335F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65FB1-E606-4F4C-B9EA-82E079D2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E56A3-3A60-41D8-83A3-47B1B985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C5840-8D9E-44EF-B0E5-3A3075FE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181A5-5E57-4677-8E3D-A234BB23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E4200-589D-4EDA-B4BF-53E513AF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26A7-376C-4C79-80E5-F61608E5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13964-42D9-4E5F-98CC-4E5F05E4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0D45C-1BC6-4761-9015-4AEC59E2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80E27-1A48-4B9B-B676-0746ECFE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9996D-3B7F-43F4-8D02-5DB07FA7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7CA97-1974-4E4F-8256-6C241115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0C9D9-204A-4F7E-906D-756E5602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A33E1-A216-474B-84EF-63CB6855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8646E-885A-4AD0-8C10-0F7D4111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7E2BB-5A08-4FC4-B87B-D6E13675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EC638-9E43-49B1-A137-5D6CDB3A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9129-785E-4EAD-9765-1D74E41B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DDA95-E954-4BA2-8051-0145AFB3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67322-16EE-4290-976B-A85A7B06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0A0B6-D6FC-4DB0-A21A-86EC25B3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3A769-2D89-410F-B3F2-4A073765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919BB-1B33-4E26-B3EC-EA852F4C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DEDBC-9210-4ACF-8B04-13CE4937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398DFC-3346-4598-9CC8-1650B37E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0DD4A6-5DA4-43C6-AF0A-8E0839DA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365DC-0EC0-4DF9-884A-37241EC1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930CD-FB2F-478F-8934-D17F154C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B725-65DB-4531-8339-DBF57501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F699F-C1A8-4A92-8AEC-79E718D4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1A7BB-3230-4D39-86A5-374DDF33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D92A1-7BC0-4387-AAC1-AC5282FA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44DD9-E7F7-4037-8DA7-156F9EE8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8656E-F79C-4028-A94B-31D71936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2B861-AABD-4C1F-A197-E63A96A5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F666E-E2EB-4B32-9C6C-D4374C7D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78967-03AD-4098-A9B3-35E8E231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1D91D-74DB-47CB-8F4A-466BE927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D17C43-24FD-4A24-A837-6595D780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4B74-2C2A-48EE-8029-A86E93F3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C353C9-4CFA-40BF-AFA3-DE50C843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B391A3-1A40-4FC4-A5E9-CF0D45DB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D2E104-B8F4-4241-9FEA-039A3C8D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935D6-335F-4B95-8335-AB73CAA2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A1BF0-BC11-45BE-908B-58E42143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DA59A-479B-4F3D-8951-EF43EBF5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B02E8E-7CEC-4003-A010-29268894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68F2B8-1DD2-4E64-9467-CB26DE52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9D32F0-BD97-4571-9346-1F80E410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2FA5FC-ACFD-43FF-A586-72CC280C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5FE0-86D3-486D-BE0A-43C4AD01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60B220-2367-4166-B670-41FCB274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0FD928-B519-4A76-91AE-FD5ECA93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A1E89D-9823-49CD-9064-37510E24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497CA3-1AE3-4E1F-961D-47DBFD78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7A9DE-7914-45E0-931B-D4ECD9E3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407C0-A8E5-4F4A-89D4-5329773D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5402B9-14C2-4D7C-897B-EF2B5DF1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8311E-CCF2-4B4C-86C0-3F39C373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1A03DF-8685-42BE-894B-F08A8F4D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BA04EB-5B0D-436A-B2CE-D7916D3D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2CC1-8E43-4C40-9772-E0E2F400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58A0F0-3D55-4049-BADF-4ACFCB9A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831A58-5AC1-4C40-9F6E-978A1F75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223468-34D4-4CBC-82C4-61C07520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FA3847-0D5D-4941-A4F8-C2F24234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90D0E8-1AF1-4FD8-8BEC-F866B4DF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F6A368-A4D4-417F-AB9F-A4814102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05C7E-4544-43EE-958E-8B5E0143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9EC78-6563-45C2-87F3-9BAAD16D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8952B1-ED6F-4349-8F3B-6660E09E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40151-C3BF-4325-99E5-C6C99144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CF1-BA93-4A55-92E0-B173ADE1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7E2E-FDBC-4925-9628-FB0CCF7C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EA8422-34BA-44D2-B3CD-6297380B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4EFD6-87D2-4FD6-A8E5-4C0CDE44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5EE9B5-B58B-4D62-A8E8-401A2503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6EB13-D5B5-4FAE-85BD-083B095B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1B20FD-8FBB-46EA-B2C0-B242FE4F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3D1202-83D5-4AC7-A040-8F4120C2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B7F76-AF5F-4E0E-8C39-B7B4B403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102DF3-6391-4C84-9F11-E2859956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D15B5F-54BC-4EDE-8FEF-0227FCF7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BC914F-9034-4E8B-A537-A2672629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4892-D0C7-4179-B3F4-40BF453E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91A0CF-C3C2-4065-B231-604AF8C7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12FB16-8E21-48A6-AE50-2FF07F7D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0E93D8-8EC1-4DFE-A995-8FDC2940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D2D0BC-43ED-47B6-AF0C-178C540C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A9E7AB-9B1C-4AC6-A208-7C86685F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DF7885-0E31-4B24-8EF9-DB5DB562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5D02C-9B66-48D2-B41A-C8DB80F6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3F8D7C-EF69-4BE4-B6E7-8B3C6078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9CBEE-0D71-492A-BE9A-1405A9F2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7D1FD4-E46F-423A-A2BB-6344089D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7CE3-1749-4E43-92B7-55611B8B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8D69EA-F4F1-4426-9C66-629D50C0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CB8ADA-13B9-49E9-B25C-52E12C61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BA21DB-926B-40D6-9F74-D0A29629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F04B5A-1C15-4A6B-B690-E0FF6BF7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DA6908-F50A-49CB-A310-E2402567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63B9CF-8C0F-4418-9AD2-02125A1C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895DB8-584F-420E-8427-5C20C8FE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0B914E-945F-411A-A6CA-AE1CCDAE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08558B-13B9-4161-9535-C861BE33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A46D3E-1655-4439-A1E5-1FE6B206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24AD-224D-43F9-9274-844514E3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387353-DF83-4ACB-B655-3C7E189C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E00E5C-8FE0-4B78-A1E8-F2233103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808689-4A4E-4C57-90D1-CB400ADD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D58EA-3812-4D19-80E4-3952CDC1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18D1D5-F3A5-4F4C-A526-3EE1AEEA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1ED0B-46DA-4799-8071-E00E05CC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D3E6F9-C174-46B5-86EF-98641A2B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F96CE3-97D8-4C96-BA39-982B33B0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397C67-14ED-4014-9A2E-7347FFF2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E4CA74-BFF4-4ED2-8404-109F4353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F70D-BE70-46CE-B5B9-D3BE8E9C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BBD95-FD60-40C9-8F1E-1303BB3F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591E22-795E-4FC4-9976-73DEB357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BC83FF-5353-4A4C-AD28-2F3DFD58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7B9F83-A097-4D83-89C1-05FDC195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2A65C7-5F5D-4CB0-AFA0-0373273F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B2A28D-4F07-46B9-A999-629033E8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6EC332-5311-4467-972D-533534AD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E9829E-3F21-4E67-A320-60B7EBDC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C5A483-73D6-4533-9013-6F4212BE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39A2D5-1746-4EB1-BEE0-F82401B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7009-BB05-44CC-9A5F-0D303F15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D0F28F-3C73-4331-87EA-C40F2E0D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2C8E4A-C61C-434A-8B19-84AD9A7E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0F4239-B48E-4504-B3C8-6F46F47F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DD08C0-9907-474E-8D3C-FBAE830E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748065-9F0C-451A-BBC1-55948708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8DE8C9-EE64-4355-A34F-679BEA24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978659-16AB-447D-9B0C-45DD2E9D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A3B5ED-623C-4E44-8911-8EE9C646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BB1EEA-6284-483E-92C0-EFCF9DC6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258F9B-5D09-4378-8FDF-275FAAD5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F33EB-AC8B-4FC5-AE41-666D36DB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EBE0C6-D6EE-43C8-99D2-4E51E2D3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0F1714-ED9B-444C-86F9-5CC5758B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D8C18D-663A-42BE-B5B3-9E42905B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BF1BBF-43E9-43B1-AE24-0A3385A4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F9BE95-60BF-49DB-A288-604B79E5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EE1A97-78AC-4E5C-897F-E0497ED4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A41161-D6F8-44B8-A6BD-236E6161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66E68E-A385-4AE3-98D1-C5361D30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47D44A-7FB4-4F90-A54E-208B9DD1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397515-6163-4C26-B7CB-3F9D929B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EC497-477C-4981-BD1F-9CBDA9CA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9A2D1C-9E38-4DDF-809D-3BFBBFBD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96F211-45EC-4C0C-913A-D347C12C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A5904A-079F-4F6C-95A5-E7B64B85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B5124B-0781-4610-AEA1-E3D96E75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F736C6-2329-43E9-9FD1-FE4667A1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9D239B-35A2-40DA-BBD3-471C63D0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A3C82F-750F-4012-91B6-8DA02F6E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C5009-9BD2-47F8-8109-5F810B70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2F7C2-21FB-43A7-847A-00536705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DD9-EB18-4226-9D97-20EFAE83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42EBE-D552-4810-8DE6-A94368AD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6DD2A-99E1-4745-A81B-E64A776E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9ED42-BC65-4FA4-9CBB-9DC7EE27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95880-BDFD-4DAD-B171-48599EE1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A8A93-831F-42AB-B16C-2E590DD6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76890-7D3D-4DB3-AD50-A358021B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7E963-9AEE-4703-9902-7505AAC9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F36C9-F56C-4E78-B01E-F0B2CF2B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E4785-1DE1-43C7-ACC5-900510A5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F4867-C5AB-4945-8A34-E81F1029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392-FF94-4FDD-B4E7-5247C417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84AB2-8A5F-4D63-94C9-F867C8C2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D59E8-4AB6-428F-8811-4395DF9B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BF2BA-82A0-481A-868C-92C03524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42729-EFFD-4F1E-8966-EEF8DFAC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3DD81-1262-4BCB-B0AE-A2A0AE6D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FEA3B-1083-4621-B951-38E249A4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7FC18-1141-455D-8EE2-F2F89681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69FBA-732B-4A0F-9002-379A8A6B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DC499-2917-4C73-8CCE-DD8B5A05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53E0A-101C-46C1-A8FD-99D0FAAF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AA5-894C-4F93-82A5-39CD2A49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1355F-79EF-4DAF-AA06-8C7D0D76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49CD2-8D3B-4876-9DE3-5CA9C404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48F0C-A4F4-48EB-B920-18A56F8A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ABC74-92CC-4ABB-A548-4400729A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DC4A6-E1C6-40D1-AEDF-F9A65B21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C0959-A636-4388-93DE-10D721D0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292B0-730A-4C4C-8863-A8CEFFED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6DC5B-93A6-4822-AA58-82784AA4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D8ADC-183F-454B-B635-42396D87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48B0D-B794-48A4-B59B-EB832365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FA2-AA25-4B3C-9F59-8BF62A53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93764-66AE-4A58-A2D9-6456E21E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49803-9110-4493-86C6-DD66D5AE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C5127-9CDB-45AF-83A5-7475DC38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E3A21-70D8-4B83-9648-CC1F564F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C34C6-FD68-492B-8032-C02055AC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E18DC-0DF5-4D64-AF40-5DFDE01A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74012-9C89-4DB2-AAA4-398E1024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52C28-FE12-4C4B-806C-26C3AB44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CDCB6-C1D7-4BF5-BC56-C9E599C3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5DF0F-6619-4693-8ED9-15BA6627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AA3-E624-48B7-8C2F-6DFEC51A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8074D-982B-4E6D-A0E6-2C0BC945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C2B77-04CF-4B83-9643-FF98F8A1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2F374-0232-4E82-8926-B41467C3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E1721-DED2-4C06-902C-0E2E4E9A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EEBCF-D409-4DCB-9952-0CC70556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EA3B1-A80F-4FB3-B330-6D6BB727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1550F-D99A-430E-A021-90765295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33D9C-5C62-475B-B17D-C89FAFE4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AE056-C23C-4F6D-A9D7-812D1A8D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4AA11-BA6C-4343-B68F-E483FAEA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721-7087-4857-B3A5-13872EF4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DFA57-9B4E-43A7-92CF-44E24A27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F3770-B061-4A8A-B485-91F7E29F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3EA90-C624-494C-8FDC-C7A568AC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CDFDC-F6DB-4914-84AB-46052382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7E8E0-3CC9-4785-80FB-E33D1707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9E0F6-CCD6-468D-A123-B816D581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E8AD8-2DBA-473E-8190-942FEA5D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3FDEF-82F1-45A3-AE92-C7F60AFC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A4CB3-B46C-4BFE-8585-0DE2436E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35331-BC7E-4F04-BCDD-F7BE5F64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956-283F-4413-804C-D0F80E6F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031C8-2142-46CC-AF8A-1AD10502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934F8-E369-4431-AB5F-588980EC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8B36E-8293-4528-9FE9-E11F27A9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BE10E-FFC0-4E12-BF68-FB9C86A5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02890-DEE4-4C7B-A324-878A2A90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E3F8E-0A3D-4F8E-9089-E78883AD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30BE0-9DA4-457C-BA81-10B78B0A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E5B2A-1AA0-4B8A-9C2A-1ACEE13F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5E63C-76C5-45D2-A224-EBA16049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43D45-4053-4550-B2EC-BF0E7D85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899B-A737-4B3C-8C68-1922188C1F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9A59-BCFD-4E2D-9BE9-35F151E4DA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9BEB-A67B-48E4-81CC-5CFBC182FD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25D9-357A-4BF4-83AA-F76E6394DA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18E5-BDD2-48F4-9DFF-C118FA8BBD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F3AC-08D1-4D2B-8764-A70C586AD1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324D-4343-4810-8893-6109E0B839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D942-8C4C-40BA-B3B4-28039D1365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F907-CE25-4BD5-9676-2FFB0FF866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069A-E5CC-4433-B13B-35F4C125A3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857B-F313-4CAF-8C35-74D026616E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1BBE-226D-4C6F-87C9-954BFA004C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FC42-F3A4-495C-AB63-ED18AF53FD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1643-B5A3-431F-9A21-07736E6673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B297-F3F0-4CBE-9D7B-2823B9D596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F595-65BC-42A8-A0B5-5C59E5B41C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0E52-77AC-48C8-8403-02984A7480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1FEB-95AB-46D3-BA87-4F9CBA9C57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6AFD-8D66-40D2-AC48-15D758F9A6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7D43-9117-49A0-A035-C2116B7CE0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6A2F-3263-4D83-A456-E02853493D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75EE-7729-4B3B-B927-6F06FB42A2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0B46-EFEE-448E-89AD-B0E3CCBABF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D0B7-9C42-4016-9291-7A29D15D24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03D4-8852-4136-8C98-42272238CD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973C-B82C-4DEC-9E3B-A6C8081354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55C5-6BBE-422D-8348-2126C07C27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BE09-8304-4AE9-BB34-9846278881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0B28-4972-4046-A58F-36A867C595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62C3-4B53-41BB-8E5B-2540274436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F184-49DA-4B1B-9E09-9677FF586C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1527-7F26-43C5-A0E7-38E4BB8385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76C5-B16F-4F6A-91B3-871415AB35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FA13-5019-43C6-AAD9-0126182F66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7200-DEC3-4F1C-84FC-CA52169755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9F4F-5BB7-4B13-8099-A6AA51675A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F2B9-62FB-4918-850E-C22CDA8885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10D9-F542-495D-A40B-82A4B90B64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B989-DF84-42D1-B0A2-D50A96371B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6338-CC09-4D42-B92D-5AB1BB86E3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05F1-C30C-4B12-95C4-D6D5082804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A84A-5AF8-4D8C-81F8-0238C1BE79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52360" y="2981160"/>
            <a:ext cx="87613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20520" y="1639800"/>
            <a:ext cx="9102960" cy="181620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2" descr=""/>
          <p:cNvPicPr/>
          <p:nvPr/>
        </p:nvPicPr>
        <p:blipFill>
          <a:blip r:embed="rId2"/>
          <a:stretch/>
        </p:blipFill>
        <p:spPr>
          <a:xfrm>
            <a:off x="1400040" y="4000680"/>
            <a:ext cx="6343920" cy="2400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3102120" y="213372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2843280" y="2637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5796000" y="213372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6156360" y="2637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7"/>
          <a:stretch/>
        </p:blipFill>
        <p:spPr>
          <a:xfrm>
            <a:off x="8532720" y="2133720"/>
            <a:ext cx="58284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8"/>
          <a:stretch/>
        </p:blipFill>
        <p:spPr>
          <a:xfrm>
            <a:off x="8547120" y="2637000"/>
            <a:ext cx="58248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9"/>
          <a:stretch/>
        </p:blipFill>
        <p:spPr>
          <a:xfrm>
            <a:off x="3189240" y="4653000"/>
            <a:ext cx="58284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0"/>
          <a:stretch/>
        </p:blipFill>
        <p:spPr>
          <a:xfrm>
            <a:off x="3189240" y="5300640"/>
            <a:ext cx="58284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11"/>
          <a:stretch/>
        </p:blipFill>
        <p:spPr>
          <a:xfrm>
            <a:off x="6084720" y="4653000"/>
            <a:ext cx="58284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12"/>
          <a:stretch/>
        </p:blipFill>
        <p:spPr>
          <a:xfrm>
            <a:off x="6084720" y="5243400"/>
            <a:ext cx="93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47760" y="1281240"/>
            <a:ext cx="8448480" cy="42955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435640" y="4826160"/>
            <a:ext cx="3168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504720" y="1095480"/>
            <a:ext cx="8134560" cy="46670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24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24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4"/>
          <a:stretch/>
        </p:blipFill>
        <p:spPr>
          <a:xfrm>
            <a:off x="5364000" y="1916280"/>
            <a:ext cx="309564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5"/>
          <a:stretch/>
        </p:blipFill>
        <p:spPr>
          <a:xfrm>
            <a:off x="5508720" y="2492280"/>
            <a:ext cx="30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6"/>
          <a:stretch/>
        </p:blipFill>
        <p:spPr>
          <a:xfrm>
            <a:off x="755640" y="4537080"/>
            <a:ext cx="30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7"/>
          <a:stretch/>
        </p:blipFill>
        <p:spPr>
          <a:xfrm>
            <a:off x="900000" y="5113440"/>
            <a:ext cx="309564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8"/>
          <a:stretch/>
        </p:blipFill>
        <p:spPr>
          <a:xfrm>
            <a:off x="5364000" y="4537080"/>
            <a:ext cx="30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9"/>
          <a:stretch/>
        </p:blipFill>
        <p:spPr>
          <a:xfrm>
            <a:off x="5508720" y="5113440"/>
            <a:ext cx="3095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190440" y="914400"/>
            <a:ext cx="8763120" cy="502920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1042920" y="324000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1042920" y="458136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1042920" y="5186520"/>
            <a:ext cx="7058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90440" y="1343160"/>
            <a:ext cx="8763120" cy="41716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971640" y="285264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971640" y="350028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900000" y="4869000"/>
            <a:ext cx="518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181080" y="990720"/>
            <a:ext cx="8781840" cy="48765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79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971640" y="3645000"/>
            <a:ext cx="79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971640" y="4221000"/>
            <a:ext cx="79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971640" y="4869000"/>
            <a:ext cx="79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6"/>
          <a:stretch/>
        </p:blipFill>
        <p:spPr>
          <a:xfrm>
            <a:off x="900000" y="5386320"/>
            <a:ext cx="7921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295200" y="57240"/>
            <a:ext cx="8553600" cy="67435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971640" y="450864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042920" y="5084640"/>
            <a:ext cx="57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042920" y="573408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900000" y="6280200"/>
            <a:ext cx="576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366840" y="800280"/>
            <a:ext cx="8410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766800" y="1609560"/>
            <a:ext cx="7610400" cy="36388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755640" y="1685880"/>
            <a:ext cx="77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77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611280" y="2924280"/>
            <a:ext cx="77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611280" y="3500280"/>
            <a:ext cx="77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684360" y="4064040"/>
            <a:ext cx="777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7:4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